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7B2-D9A5-430E-9550-8B577301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DB2-7C7D-4FDB-8F95-CC889B18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3A9-564A-477A-BEFA-733DF1E7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C25-E5D9-425F-A0AA-DC378A76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162-4F09-403B-B14A-5BEE482D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ADA-9511-45C2-A46E-2637CE50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D10-044E-42D2-AC27-7FED29B1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8F7-D9D8-4A2D-872C-160AC1B4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F2A-98DE-4B8D-8829-483161C1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BC9-2EF7-4861-8A08-9152233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626-5961-485F-A753-81E84966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37F-E23D-4AF7-AAC0-DD04D976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8AC-5154-4CB3-A68D-62AD8CC99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63360"/>
            <a:ext cx="771048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76200" y="1828800"/>
            <a:ext cx="2990880" cy="61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90000" y="18651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2438280"/>
            <a:ext cx="7543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229600" cy="226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8610480" cy="1349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24280" y="3809880"/>
            <a:ext cx="1905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305560" cy="237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8229600" cy="87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91120" y="3809880"/>
            <a:ext cx="2971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6597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5:40:41Z</dcterms:created>
  <dc:creator>Graham</dc:creator>
  <dc:description/>
  <dc:language>en-US</dc:language>
  <cp:lastModifiedBy>Graham</cp:lastModifiedBy>
  <dcterms:modified xsi:type="dcterms:W3CDTF">2012-08-08T12:16:48Z</dcterms:modified>
  <cp:revision>4</cp:revision>
  <dc:subject/>
  <dc:title>Slide 1</dc:title>
</cp:coreProperties>
</file>